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1B58-BC18-498B-84B3-0C2F997F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0FD6-77CB-4968-876E-7A6DCE59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3DB4-2472-4EBC-806D-C01A86F0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E97A-F1C0-479F-8FCE-87406CF1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E083-BC3A-4410-8AEB-2B606469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8498-FB36-4AD0-96FF-97AF8EEF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6A30-F108-4A3C-8AFA-CC93E13E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B3F3-881C-4D5D-ACDA-DB5F7ABE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D784-CADC-4D21-A94E-B4B7B102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4D1E-058D-40C3-8046-4664D89B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F43D-676B-4825-B40F-4A9E46F6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4C79-3DD8-4303-8000-3BFCF307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334C-A816-449B-ABC7-E9F357DB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85AD-4B8B-49E4-B365-D0CD69FA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8F78-1434-4767-B234-C397E51B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D8AB-FF25-4090-9682-DFABA08A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9BE5-D7FF-4AB9-BDAC-621A54A5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0FF4-14C2-4D07-9885-34B0E67B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EE85-BA0B-4A48-864E-94621E73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B693-4EBD-4CB4-9198-21E7BB8A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655E-3F00-4AAA-921D-E9E2787F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511C-9969-44F0-9FC9-ACBB68A9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1CA9-B5A3-4065-8EEB-43C38B7D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41A8-8A95-4993-B3F4-542A6A13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05AD-2D18-4CE6-BE85-DD1268DB891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BC6B-3518-469D-A313-CF35A5DFE0C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Тема:Синонимы и антонимы.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676160" y="4648320"/>
            <a:ext cx="5691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Автор: Субботин Сергей Владимирович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Ученик 5 класса «Русской гимназии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2010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Содержание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инонимы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Для чего нужны синонимы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онтекстуальные синонимы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Антонимы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Для чего нужны антонимы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Синонимы.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инонимы – это слова, которые имеют схожее лексическое значение, но пишутся и звучат по-разному (например, дом – здание)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Для чего нужны синонимы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инонимы нужны, чтобы обогатить нашу речь, чтобы она была разнообразной и яркой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Также синонимы помогают нам избежать повторов, тавтологии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Контекстуальные синонимы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Контекстуальные синонимы – это слова, сближение которых по значению происходит лишь в условиях определенного контекста, причем за пределами этого контекста они не являются синонимами (например, «День был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августовский, знойный,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томительно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скучный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»-А.П.Чехов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Антонимы.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Антонимы – это слова, которые имеют противоположные лексические значения (например, «большой – маленький; высоко – низко»)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Для чего нужны антонимы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Антонимы, как и синонимы, нужны нам для того, чтобы наша речь была богатой, разнообразной, живой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Антонимы помогают нам избежать повторов в речи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5-06T05:50:0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